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CB2-866E-4E6A-9AD3-F1C3D9C3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B27-71C1-4CEB-B04F-DC360FDB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914-5043-4A37-B84D-1448C2C9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39D5-982C-4D05-B1FA-D8109115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5579-C330-4D6A-B6BE-7B8E976D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70C8-8127-42DD-94D7-0AAA75E4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A702-2298-4086-B717-C8C7390E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77DF-669A-4E76-BF3F-665E213F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787B-0E74-45DA-AB09-A4B49E72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5A8E-BE82-4B72-80F0-5F91EC47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4B72-DC8D-48D7-9570-F2454EF8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024-0AB5-4013-BE09-ACBB5622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9E2F-A040-45BD-B3B2-4F8FCB9F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4B59-3C4E-4AA0-94E3-B90D98C5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31F7-ACEE-4F31-B0C4-8B4E64F4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B363-80C5-4998-85F3-B9C7ECEF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C7AA-0939-4C2D-A548-E4441C98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7C9-D103-4C1E-83AA-2AEA4674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41E-E54F-42BF-BA81-7FDAA244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219-021B-4A37-92B3-C549AE92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93CD-6276-4159-B901-E8C2779D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FA2-A90A-4FF1-974F-5EA33038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F96F-B015-45B4-B26D-420A4EFC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C9D9-F7E8-47CE-98B4-5EFD3ED5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3F87-D55B-421F-921B-B1E08EF469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C9C2-C0CB-4502-8407-A15E1C943A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Pituitary Glan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ster G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00400" y="4343400"/>
            <a:ext cx="2752560" cy="2365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 rot="573000">
            <a:off x="6477120" y="228240"/>
            <a:ext cx="2409840" cy="2314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 rot="20897400">
            <a:off x="5943600" y="3276360"/>
            <a:ext cx="289548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Where is the Pituitary Gland??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77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ituitary gland is a pea sized Gland located on the brain near the optic nerve and is attached to the hypothalamu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449568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Hormon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drenocorticotropin (ACTH)-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ntrols the adrenal gland. It also helps control blood pressure and glucose level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hyroid-stimulating hormone (TSH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Stimulates thyroid gland to regulate metabolism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uteinizing hormone (LH)-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ntrols sperm production in men and estrogen in wom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Follicle-stimulating hormone (FSH)-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stimulates ovaries and test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Growth Hormone-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ntrols growth in children and muscle, and bone mass in adults. This also controls fat distributio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ontrol – FEEDBACK!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823760"/>
            <a:ext cx="45198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ituitary gland Helps and tells the other glands to start producing there hormones. When they start producing their hormones the pituitary stops producing them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external image 28208-0550x0475.jpg"/>
          <p:cNvPicPr/>
          <p:nvPr/>
        </p:nvPicPr>
        <p:blipFill>
          <a:blip r:embed="rId1"/>
          <a:stretch/>
        </p:blipFill>
        <p:spPr>
          <a:xfrm>
            <a:off x="5460840" y="1219320"/>
            <a:ext cx="3683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Target Cells with Recept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581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renal Gla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s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ar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yroi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external image hypothalamic-pituitary-thyroid-axiskq.jpg"/>
          <p:cNvPicPr/>
          <p:nvPr/>
        </p:nvPicPr>
        <p:blipFill>
          <a:blip r:embed="rId1"/>
          <a:stretch/>
        </p:blipFill>
        <p:spPr>
          <a:xfrm>
            <a:off x="4114800" y="1523880"/>
            <a:ext cx="46483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Why is it There??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760" y="182880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ituitary gland is one of the most important glands in the body because it helps control most of the other endocrine glan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1148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4:12:22Z</dcterms:created>
  <dc:creator>701311</dc:creator>
  <dc:description/>
  <dc:language>en-US</dc:language>
  <cp:lastModifiedBy>DThomas</cp:lastModifiedBy>
  <dcterms:modified xsi:type="dcterms:W3CDTF">2011-02-16T18:39:02Z</dcterms:modified>
  <cp:revision>5</cp:revision>
  <dc:subject/>
  <dc:title>Pituitary Gland</dc:title>
</cp:coreProperties>
</file>